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8350-E1C3-4CB9-83B9-F35ACAA7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6BC-73C0-4A40-ABFB-1DD22584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1BE4-5A4E-43E1-BC9B-08C8159C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06AC-3429-4715-A536-92B52A08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06C5-BF07-4F0A-94D0-067399D6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EF2F-757D-4E0C-BBEE-8DF674F4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3AFF-0006-43C5-AE99-6CF95CDD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082F-7C22-4ECA-963C-3138345E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0C7A-1AF8-41E9-B458-38C59A8F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A8E-B0C6-4E06-AD75-3B2BC3DB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7F34-DD9E-4EEE-817D-2B377AE1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ED37-B905-4314-86AF-8CAFB8D8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DE3D-2758-4177-9619-893CB39DE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ing Singap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ing Ethnic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help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groups for different min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nese Development Assistance Council (CD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apore Indian Development Association (SIN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da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asian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members of their community who are less fortunate get 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help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give mor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ingaporeans to cope and compete with one another on equal fo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people from minorities improve their social and economic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2002, different groups have embarked on joint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vides opportunity for youths from different ethnic backgrounds to inte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3 Developing Commo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s and programmes organised by grassroots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offered by educational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living space provided by public ho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 conducted by Inter-Racial Confidence Circes (IRCCs) and Harmony Circles (H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experience through National Ser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s and programmes organised by grassroots organis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sroots organisations such as People’s Association (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rogrammes to cater to needs and interests of Singapor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visit / Home St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participants to better understand other cultures and cus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friendships can be bu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portunities offered by educational institu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al institutions are open to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from different races and religions study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 and school activities cultivate and strengthen friend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-Curricular Activities (CCAs) help promote closer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learn to appreciate one another’s talents and respect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living space provided by public hous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80s, too many people from the same racial group were living in the same e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hindered bo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89, ethnic integration policy int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uts a limit on the proportion of races in every neighbourhood and b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together provides opportunities for people from different groups to inte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ties conducted by IRCCs and HC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CCs introduced in Jan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ties of IRCCs include visits to places of wo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ies created to appreciate differences and develop strong bonds between different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place inter-religious and inter-racial activities carried out by H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build confidence and friend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red experience through National Servic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Service introduced in 19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experiences going through military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ens bonds among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Ethnic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1 Building Nation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2 Safeguarding the Interests of the Minorit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3 Developing Comm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1 Building National Ident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Rac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ingu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rac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of multi-racialism promotes equality among all r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pecial rights gra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 opportunities to suc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vouring a certain group is prohib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everyone is a valued member of Singapore, a sense of national identity is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s that Singaporeans carry out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ing the National An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the p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foster nation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lingu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in 19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expected to learn English and Mother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is used as a bridge between the r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 Tongue used to impart moral values and tra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2 Safeguarding the interests of the mino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ity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Help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ority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minority groups a say in 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dential Council on Minority Rights (PMC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Representation Constituency (GR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CR consists of members from minority racial and religio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CR ensures that no race or religion is disadvant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ority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C ensures that at least one candidate contesting in the General Election is a min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C system ensures that minorities are represented in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s and needs of the minority groups are made known in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09:41:27Z</dcterms:created>
  <dc:creator>moe</dc:creator>
  <dc:description/>
  <dc:language>en-US</dc:language>
  <cp:lastModifiedBy>moe</cp:lastModifiedBy>
  <dcterms:modified xsi:type="dcterms:W3CDTF">2009-03-15T10:07:10Z</dcterms:modified>
  <cp:revision>2</cp:revision>
  <dc:subject/>
  <dc:title>Bonding Singapore</dc:title>
</cp:coreProperties>
</file>